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8DC0-C16B-4F53-8A63-59362F4A9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E0E6-AF78-4BFF-903C-7EC94F3BA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19C4-FDF7-421D-B928-6F0EB0720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3D49-F822-4248-8654-E935DBF91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578B-0A0A-4A6B-A4BA-02D4B6CA1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2F06-4A3D-4E76-BEE0-BE583DFC1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27C8-E238-45F7-9A61-7CD6851B6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6DE3-654D-4E80-86A2-FDDA09FEC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C61F-B444-4756-81EE-8686998C1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B3C-77E1-44AE-AFA2-3CB87B4B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AAE-B554-40E6-97B7-E3792154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0D1-8E58-48A7-81CF-9EDEA97D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416-7028-47F3-90AF-D1A6BADC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D6C-7561-4A86-B495-8897B174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D37-2C75-455B-B295-30C3F083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BD6-4702-4134-B409-A0F7CB4A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405-1B9C-4A4D-A3C3-BFB78FD9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88B-A188-4D78-8B32-57DB9239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127-8675-4FC1-A300-A7110EC3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4F9-E517-4D78-8210-897E6E0E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3D6-1C48-4145-B11F-8C7B2547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6510-7F8B-46E0-8674-50B91C805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609480" y="17524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riel Ndun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Expansion and operational issu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5800" y="220968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 harvest activities will continue in the three first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 will be conducted in the new locations: Iringa and Mbe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ringa rural district, 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ozi district, Mbe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crops to be added to maize (Soybeans,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ion &amp; synchronization of activities with other t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38080" y="1981080"/>
            <a:ext cx="701064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POSTHARVEST HANDLING, LOSS PREVENTION &amp;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harvest handling/processing/storage activities of other crops (legumes) will be added to the current crop – maiz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shelling, dehulling, mill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rying technologies (e.g. use of dryer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ermetic storag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IC and/or Grain safe bags (100kg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arge capacity storage facilities (community storage bags – 1MT, 2MT per b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38080" y="1981080"/>
            <a:ext cx="7010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ADDING VALUE/NEW METHODS OF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armers’ training on new methods of utilization of cereals &amp; legumes such as soybeans (e.g. dehulling, soymilk 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cipes for complementary foods and training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 level service providers in delivering nutri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ing the capacity of households to access and consume nutrient–dense foods through improved nutrition knowledge, perceptions an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MP for processors of maize flour &amp; for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sticide residu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981080"/>
            <a:ext cx="8305560" cy="73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EARLY ASSESSMENT OF POSSIBLE ADOPTION OF INTRODUCED CROP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valuating the acceptability of new crop varieties introduced to the farmers by capturing information on consumer/end-use quality traits, nutrient density, etc. of the new varieties vs local varie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ze extraction rate; soybean ease of cooking /milk yield;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establish potential for adoption (disaggregated by location and possibly by end-use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4920" y="1981080"/>
            <a:ext cx="830556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yFarmers’ dialogue in the new locations to identify the most critical postharvest constraints of the farmers &amp; training on those aspects (e.g. PH issues identified in M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nchronizing some postharvest activities with the other project teams require joint planning and operationalization of the plans(e.g. field days or training after the crops are harvested; same project locations/ same farmers’ grou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04920" y="1981080"/>
            <a:ext cx="830556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 of plan mid-season needs to be jointly understood and agreed by all the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to new locations may mean increase in cost of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may also reduce the time to be spent working with farmers in each location – may become inadequate for adoption to occu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THANK YOU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04920" y="1981080"/>
            <a:ext cx="8305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7:24:16Z</dcterms:created>
  <dc:creator>Kinyoro Ibrahim</dc:creator>
  <dc:description/>
  <dc:language>en-US</dc:language>
  <cp:lastModifiedBy>Kinyoro Ibrahim</cp:lastModifiedBy>
  <dcterms:modified xsi:type="dcterms:W3CDTF">2015-07-09T05:55:00Z</dcterms:modified>
  <cp:revision>11</cp:revision>
  <dc:subject/>
  <dc:title>Slide 1</dc:title>
</cp:coreProperties>
</file>